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05B7-3C17-4FEA-9674-AE4BB3B8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7F8B-3C83-42B4-A40C-147D79EF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72B1-31EC-40FE-A194-73AE4F82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7269-5F55-4019-A35D-85797807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A21-F94B-4BBB-937A-824E86CA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3654-7B41-4C01-83A2-BBAF49DA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4475-AA4E-4417-B1F9-67B8FC42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2723-253D-48A4-A107-DDF571D1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9CA7-B490-4C0C-B0CA-0F4AC40F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8E90-44DC-482E-B14D-5BD32520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0F65-B804-42B8-801B-4E2D16F4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2D79-A9B9-4014-8681-14D93929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080C-CC0C-458F-B50A-5D9767ECE0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urlz MT"/>
              </a:rPr>
              <a:t>How did early Maori make </a:t>
            </a:r>
            <a:br>
              <a:rPr sz="4400"/>
            </a:br>
            <a:r>
              <a:rPr b="1" lang="en-NZ" sz="4400" spc="-1" strike="noStrike">
                <a:solidFill>
                  <a:srgbClr val="000000"/>
                </a:solidFill>
                <a:latin typeface="Curlz MT"/>
              </a:rPr>
              <a:t>fire and cook fo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urlz MT"/>
              </a:rPr>
              <a:t>By Aimee and Jor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Digging the p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dig the Hangi pit according to the size of the bas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laying or the number of people you are catering f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 heated stones are used as the cooking tool although alternative metals can be used. Wire baskets are us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ld the food. Traditionally it is the men Ko na ira T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 put the Hangi's down as Wahine (women) aren'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owed to take part in this part of the preparation.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n and the woman work together in preparing the fo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the Hangi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ings that are cooked in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a hang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eople cook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getables such as kumara (sweet potato),        pumpkin, carrot, potato, onions and cabbage are norm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oked in the hang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268360" y="3141720"/>
            <a:ext cx="3924360" cy="2887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urlz MT"/>
              </a:rPr>
              <a:t>We hoped you liked our 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Curlz MT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132000" y="256536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ow did Maori cook 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ori cooked food by using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angi. It is very hard to prepar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ang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ow did Maori make fi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ori made fire by rubbing tw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ticks together 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ood used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Kaikomako. </a:t>
            </a:r>
            <a:br>
              <a:rPr sz="3200"/>
            </a:b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eps to make a ha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oking Oven is Prepare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od &amp; Stones Prepared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od is Prepare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476360" y="3645000"/>
            <a:ext cx="1762200" cy="1400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476360" y="5448240"/>
            <a:ext cx="1655640" cy="1324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ones are Super He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asket is Prep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47640" y="836640"/>
            <a:ext cx="1762200" cy="1409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76360" y="4437000"/>
            <a:ext cx="1752480" cy="1409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476360" y="2781360"/>
            <a:ext cx="1752480" cy="1409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33200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food is added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splashed over the hangi to cause steam &amp; cove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gi is left to cook 3-4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76360" y="620640"/>
            <a:ext cx="1752480" cy="1419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476360" y="2492280"/>
            <a:ext cx="1752480" cy="1419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476360" y="4724280"/>
            <a:ext cx="1790640" cy="1352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the Sacking is remov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the Hangi is expos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gi well cooked ready to ser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476360" y="836640"/>
            <a:ext cx="1781280" cy="1333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476360" y="3284640"/>
            <a:ext cx="1781280" cy="1162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476360" y="5013360"/>
            <a:ext cx="1790640" cy="1181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116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times during the making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gi, sticks were stacked or placed a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im of the Hangi to  to prevent crus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the weight of the earth on top. A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term we call rakau korehina. These day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many different Hangi methods u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re baskets became widely used in the ear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th century with sacking and cloth replac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ves and bark as the covering of choic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angi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9144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king was not done in the main house, but in specia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t sheds called whanau or kauta, or the food was sim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ked out in the open. Food was generally eaten in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, or in a whanau. Distinguished visitors, if sleep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large important meeting house, might be serv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food in the house, but the food must be placed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arrow space left in the center as you enter the doo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1T20:39:37Z</dcterms:created>
  <dc:creator>5d09</dc:creator>
  <dc:description/>
  <dc:language>en-US</dc:language>
  <cp:lastModifiedBy>5d09</cp:lastModifiedBy>
  <dcterms:modified xsi:type="dcterms:W3CDTF">2013-06-18T00:33:14Z</dcterms:modified>
  <cp:revision>7</cp:revision>
  <dc:subject/>
  <dc:title>Slide 1</dc:title>
</cp:coreProperties>
</file>